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2F07-CC26-4768-953A-44082B899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3C33-ECCC-4613-A9B6-F51CF4FD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31D2-5C31-4D1B-800D-2F8DF21C9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F770-098A-484E-BCAB-893DF5A8A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A63D-B760-48F5-A75E-BD8EBFD0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F30F-C07A-46B7-9838-B8FE2DB9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1B32-3582-4712-9666-98D33A3D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9DFD-C085-4CA1-97D0-A896A478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1EEF-3E01-4641-BB26-0DD2F390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04EB-D9A9-4330-861E-6BD1E26C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D694-1EB4-4D20-AEB1-343F6880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46D9-C50F-4151-9FCD-44D70285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30C6-7A3D-4091-BA37-4AD1FAB5981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 Goats action pl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ly 20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(global communic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dience (R4D community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4916520"/>
        </p:xfrm>
        <a:graphic>
          <a:graphicData uri="http://schemas.openxmlformats.org/drawingml/2006/table">
            <a:tbl>
              <a:tblPr/>
              <a:tblGrid>
                <a:gridCol w="2819520"/>
                <a:gridCol w="1366560"/>
                <a:gridCol w="936720"/>
                <a:gridCol w="3106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produc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audien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leads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who could help perhaps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Technical Advisory Note (TAN) on 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Ha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check with IFA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template/model, data, writing, conceptualization (Ramkumar, Birgit, Saskia, Ann, Ke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Technical Advisory Note (TAN) on IP and collective 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Ke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check with IFA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template/model, data, writing, conceptualization (Haile Ramkumar, Birgit, Saski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Technical Advisory Note (TAN) on value chain analysis/approa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erek/ach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check with IFA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template/model, data, writing, conceptualization (Ramkumar, Birgit, Saskia, Ke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deo (short) on proje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kia/KMIS/ 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/edi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3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deo (short) on key messa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kia / KM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ent / project sta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ki / blo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zira/Ewen/ resource peo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u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ent / Project sta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16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236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mark: check with IFAD about template/model/audi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dience (ILRI community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245120"/>
        </p:xfrm>
        <a:graphic>
          <a:graphicData uri="http://schemas.openxmlformats.org/drawingml/2006/table">
            <a:tbl>
              <a:tblPr/>
              <a:tblGrid>
                <a:gridCol w="3106800"/>
                <a:gridCol w="1079280"/>
                <a:gridCol w="1081080"/>
                <a:gridCol w="29624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produc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audien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leads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who could help perhaps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al reflection meeting on OM within ILRI proje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be decide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 /conceptualize with other projects working on OM mapp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al reflection meeting on R4D partnershi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k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be decid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 /conceptualize with other projects working on R4D partnershi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al reflection meeting on IPs, hubs, collective action (or possibly beyond ILRI, e.g. ACIAR worksho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be decid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 /conceptualize with other projects working on imGoa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Internal discussion/research reports based on imGoats (see research communit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ee research commun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ee research commun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16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mark: reflection meetings open for discussion; only when  considered relevant within ILRI; some issues can possibly be combin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dience (Research community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50920" y="1197000"/>
          <a:ext cx="8642160" cy="5508720"/>
        </p:xfrm>
        <a:graphic>
          <a:graphicData uri="http://schemas.openxmlformats.org/drawingml/2006/table">
            <a:tbl>
              <a:tblPr/>
              <a:tblGrid>
                <a:gridCol w="3241440"/>
                <a:gridCol w="1155960"/>
                <a:gridCol w="982440"/>
                <a:gridCol w="32623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produc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audien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leads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who could help perhaps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5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Article value of OM in R4D proje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Ha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ec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ata delivery validation/conceptual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8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Article on IP process and outcom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Ke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ec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ata delivery validation/conceptual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Article VCA/Approach in imGoats)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ek/Ach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rity from Derek/Acho (Kees to follow up by end Jul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Article on goat productions systems in India (exact topic to be determin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Ramku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ec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Conceptual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Article goat productions systems in Moz. (exact topic to be determin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Birg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ec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Conceptual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icle on relevance of context….(to be worked out) (not clear ye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to be discuss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ualiz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itional research reports/article from each country (e.g. in Mozambiqu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igit, Ramku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be discussed with Saskia, and Birgit/Ramkumar (follow up Kees end Jul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itional ‘technical’ articles/research reports from each country (e.g. de-worming et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ends on top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be discussed with Saskia (follow up by Kees  by end Jul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tudent/master the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tud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(depend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Supervis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04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: In case of articles, first ILRI discussion paper (Dec), which can be submitted to journal with minor modification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all work 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79280" y="1268280"/>
          <a:ext cx="8785440" cy="5437440"/>
        </p:xfrm>
        <a:graphic>
          <a:graphicData uri="http://schemas.openxmlformats.org/drawingml/2006/table">
            <a:tbl>
              <a:tblPr/>
              <a:tblGrid>
                <a:gridCol w="2880000"/>
                <a:gridCol w="1081080"/>
                <a:gridCol w="718920"/>
                <a:gridCol w="41054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/ produ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who could help perhaps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all research strategy/work p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Ju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l research strategy/work p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Ju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edback Saskia, Birgit, Ramkumar, Acho/Derek, Ha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lines products (1-2 pager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ad pers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S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ualization through Brainstorm, feedback, interaction if requi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analyz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ad per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N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delivery / statistical analysis (Jane) / check with principle research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ft Technical advisory Notes (TA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S, Haile, DB/Ach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?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hec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-writing/feedback (Birgit, Ramkumar, Saskia, An,  ILRI/IFAD?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l Technical Advisor Notes (TA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S, Haile, DB/Ach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?? (chec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-writing/feedback (Birgit, Ramkumar, Saskia, An, ILRI/IFAD?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2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ft ILRI discussion/research pap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ad auth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D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ibution co-authors (depends  on produc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l ILRI discussion/research pap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ad auth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 D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edback internal reviewers / co-authors/ communication/editing)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mit articles to journ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ad auth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 ’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3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 internal reflection meetings (if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es, Sask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?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ibution resource people from other proje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3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deo/wiki/bl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M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ct staf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5T10:11:57Z</dcterms:created>
  <dc:creator>eleborgne</dc:creator>
  <dc:description/>
  <dc:language>en-US</dc:language>
  <cp:lastModifiedBy>Swaans, Kees (ILRI)</cp:lastModifiedBy>
  <dcterms:modified xsi:type="dcterms:W3CDTF">2012-07-06T07:47:13Z</dcterms:modified>
  <cp:revision>9</cp:revision>
  <dc:subject/>
  <dc:title>IM Goats action plan July 2012</dc:title>
</cp:coreProperties>
</file>